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29D5-C1F4-47DD-9CE3-F941C99B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478D-5BA9-43C0-8B08-A557A4BD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47AD-D6B9-452A-B18E-0B247B9B6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91FC-0102-480C-A577-9E5157FA9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EE09-379D-4647-BC3F-6623CEE5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6A1E-3DF5-46EC-A3A1-74A178FC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BF69-A589-488A-820B-5D4CE0E8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5890-3A5D-4F88-9AA0-CB822B0C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4621-CCC2-4BD2-8E5B-D1C8CEF2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8C4C-BFEA-4BE4-ACE0-56EE9912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4A67-CEC0-4E7C-8A3E-012729FA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9861-08D9-4331-A7B2-AA0E4F53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F94C-7647-41D6-BBF4-69410337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C67C-0AB3-46D0-8290-4BA65AB7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1F0D-B657-4A56-ABA8-0858981D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968C-0C9D-4F2F-9C2C-95B8BF5A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FB01-0043-44CC-97FE-CD606B241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D03CA-D91C-4394-A713-6CF75D64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956F6-BD2C-4981-A815-1469552D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D248B-130C-462C-B5E5-FA162062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E34F3-FD07-42B1-BD5E-FCB77C8F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33C56-5B2E-4F89-854C-56A5D11E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F9E2-637E-451D-BE0C-C8C0F7DA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8D33B-DC5C-480A-9EDF-60A8534E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BC0F1-F50E-4189-A86D-101EBEFA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2A124-CEA5-4E0B-8ACE-00285564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DED52-426C-4848-AEAB-4AE1A63D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2090F-D41F-408F-B6DC-F602D27A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0C96B-3CFD-42A0-81CE-FBD8FC7F4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50B2E-8E29-4326-B92D-46CA0305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A0425-7AA5-4713-A109-80694B852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D9A6A-A93B-4EB8-B856-DF820E10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18D5D-9F92-4067-9764-DA19B6EE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C790-26DC-40DD-AF42-A5FE2B2D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87396-7204-4A48-A1AE-13547200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E39FB-31F2-4144-942A-9411A728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D1540-433B-41E9-8459-462F02D5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E9237-79A4-4A39-AB08-7C41728B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089FB-8892-4C9A-B453-A25BA603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920D0-5C10-4E5B-ACB7-E3B24AB8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88606-BC37-4DFA-B39A-DF7413E2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BEA5C-816E-4B6B-BA0A-3BA8FF04B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3B92C-AC65-4999-961D-A54B27683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295C-745E-4256-8D26-1086E1C2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3D02-8B04-4E73-86CF-AD5435FE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BEF1-993D-4C38-B067-41AE7252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B06D-9AC4-42E8-B2D9-736F8903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D380-0FAA-4953-A12C-D4E2B54F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CD8D-750E-4840-9902-6CCE69031DE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4DCB-DEAD-42F6-ADCA-3FC03CC7A66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BBA9-48FB-424C-B6F0-49E0E9B4E1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69EA-FC9C-4E73-9446-C4A14DAA99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6.12.2016 № № 88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7 год и плановый период 2018-2019 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752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4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3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2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2,8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35,65 млн.руб. (местный бюджет – 126,93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8,72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0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– 8,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9,0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6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</a:t>
            </a:r>
            <a:br>
              <a:rPr sz="1600"/>
            </a:b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ДЕЯТЕЛЬНОСТИ В 2017 ГОДУ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(млн.руб.)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5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351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6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7531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9,33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,32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30000" y="270000"/>
            <a:ext cx="81025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8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277920"/>
            <a:ext cx="77310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2,8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01-26T07:57:55Z</dcterms:modified>
  <cp:revision>114</cp:revision>
  <dc:subject/>
  <dc:title>Структура собственных доходов на 2016 год бюджета Дальнереченского городского округа</dc:title>
</cp:coreProperties>
</file>